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ng" ContentType="image/png"/>
  <Override PartName="/ppt/media/image3.png" ContentType="image/png"/>
  <Override PartName="/ppt/media/image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0BA09-7F54-45DE-815E-310AEDF28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038B0-FD0F-4CD0-857C-1767606CF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40010-2C89-4393-A352-E945204E9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E8269-B0AE-41D8-8D55-9B7F057831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03015-C243-4A19-ADD8-E942BB4655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7BF26-6580-45CB-8B34-DD520E1A7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6893A-C559-4B82-B88D-DCF5A51D7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CCDD1-841A-4C29-A074-616ED3725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601A9-B0B7-4298-89F7-79119AA1F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A7FB3-B9C7-41CB-B6C5-53676919F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A8BC4-9D44-4CBE-8BC0-2CE261FBA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7E3E5-CCB5-400C-97E2-CBDA49187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b1db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b1db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1db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1d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rvation &amp; Stewardship Track Introduction - R. Duer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IP Federation Meeting, Santa Barbara, July 200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5960" y="6457680"/>
            <a:ext cx="10666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7EDF-4B73-4EDB-A62D-2DBA2DDB8C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010280" y="6324480"/>
            <a:ext cx="20019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666880"/>
            <a:ext cx="9144000" cy="2286000"/>
          </a:xfrm>
          <a:prstGeom prst="rect">
            <a:avLst/>
          </a:prstGeom>
          <a:solidFill>
            <a:srgbClr val="c7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664080" cy="711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320" y="2773440"/>
            <a:ext cx="2835000" cy="2103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4080" y="31237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reservation &amp; Stewardship</a:t>
            </a:r>
            <a:endParaRPr b="1" i="1" lang="en-US" sz="36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123720" y="3962160"/>
            <a:ext cx="5334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876920" y="609480"/>
            <a:ext cx="312408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Overview of Events: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91120" y="123840"/>
            <a:ext cx="4295520" cy="59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1dbff"/>
                </a:solidFill>
                <a:latin typeface="Times New Roman"/>
              </a:rPr>
              <a:t>Things to think about as you attend sessions</a:t>
            </a:r>
            <a:endParaRPr b="1" i="1" lang="en-US" sz="3200" spc="-1" strike="noStrike">
              <a:solidFill>
                <a:srgbClr val="b1db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ata stewardship lessons can be learn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1d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sues should be brought forward at the provenance worksh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5:28:48Z</dcterms:created>
  <dc:creator>Ruth Duerr</dc:creator>
  <dc:description/>
  <dc:language>en-US</dc:language>
  <cp:lastModifiedBy>Ruth Duerr</cp:lastModifiedBy>
  <cp:lastPrinted>2002-10-01T17:30:54Z</cp:lastPrinted>
  <dcterms:modified xsi:type="dcterms:W3CDTF">2009-07-08T03:48:50Z</dcterms:modified>
  <cp:revision>2</cp:revision>
  <dc:subject/>
  <dc:title>Preservation &amp; Stewardship</dc:title>
</cp:coreProperties>
</file>